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7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8.png" ContentType="image/png"/>
  <Override PartName="/ppt/media/image13.png" ContentType="image/png"/>
  <Override PartName="/ppt/media/image36.wmf" ContentType="image/x-wmf"/>
  <Override PartName="/ppt/media/image37.wmf" ContentType="image/x-wmf"/>
  <Override PartName="/ppt/media/image9.png" ContentType="image/png"/>
  <Override PartName="/ppt/media/image39.png" ContentType="image/png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32.wmf" ContentType="image/x-wmf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A689-1547-48C0-8064-54615AC50F2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C557-5590-4852-A33F-CBCC9AEE7EC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43709-8FD3-4063-9168-21D4CFC2B2C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251-6C5E-45C3-BA6D-8DC89075F50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A0EF-4E51-413A-9A1A-0CBE7632FD5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8796-16BB-4D59-BB85-A38749546F3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54A-9E3F-4452-806C-30A7DDB5D1C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EB32-2676-4A18-B6EF-FCDF9635899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B54E-7CBE-4CEC-8814-0ECC5AC9777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7B34-2137-4357-A5F0-C5F99BD3C9F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EFE0-8F99-4347-9967-663A632F550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F0FE-2CE7-4C27-94B0-B8AF665E25F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7698-610B-4A4B-9016-9F6D941AF00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2811-C26E-47B8-8A05-27AF8C3BCA3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7324-31A3-4C7B-BA90-DF48EC5BE6D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5EFF-42E3-46F0-86A1-E4C9B16F87C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1AC0-27CF-4904-8785-3BD39B48C81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BF98-E64B-4E10-A098-32F78542DE5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AEB8-385C-4E73-B5B3-171EAABCD7C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12B7-1AFE-4A03-A010-C676F022E25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A3EE-B0D2-4820-8123-F183AE8C880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B4A-4908-4E34-8BFF-5EF0ADBC907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D8F2-19E6-4FB9-90D1-9DFA20754AD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52DF-EA5F-4E0C-AE4E-7ACECB0565B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33A-63C8-44AF-8918-FB6325FD7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F92F-03A1-4FB3-BA9D-BDCA99EF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9C3-AA18-4255-BAFD-45D5F0CE3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6CD-1E14-46DF-94C3-37E9074E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E11-9DFB-4E0A-B38F-814F12CF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D51A-3EB4-428D-9078-23E7BA6BB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F35F-C466-4958-9A28-9D5A3B1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BCA0-7F4A-4266-8397-1B259F00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9EB9-E935-44BC-82A6-D932F3C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EE38-166B-4A4D-935C-8FDBAD6E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CE8D-83AE-46E8-A094-0A7E9E08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8DD-A3B7-47A0-9FFC-295FF963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52E3-D9E9-4678-9179-58832102298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5699160" y="1376280"/>
            <a:ext cx="6073920" cy="4849920"/>
            <a:chOff x="5699160" y="1376280"/>
            <a:chExt cx="6073920" cy="48499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5699160" y="4486320"/>
              <a:ext cx="6073920" cy="173988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六 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组合逻辑电路和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时序逻辑电路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40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095120" cy="3979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D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45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7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）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46" name="图片 7" descr=""/>
          <p:cNvPicPr/>
          <p:nvPr/>
        </p:nvPicPr>
        <p:blipFill>
          <a:blip r:embed="rId1"/>
          <a:stretch/>
        </p:blipFill>
        <p:spPr>
          <a:xfrm>
            <a:off x="514440" y="1477800"/>
            <a:ext cx="5581440" cy="250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"/>
          <p:cNvPicPr/>
          <p:nvPr/>
        </p:nvPicPr>
        <p:blipFill>
          <a:blip r:embed="rId2"/>
          <a:stretch/>
        </p:blipFill>
        <p:spPr>
          <a:xfrm>
            <a:off x="7970760" y="588960"/>
            <a:ext cx="3441600" cy="32734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"/>
          <p:cNvPicPr/>
          <p:nvPr/>
        </p:nvPicPr>
        <p:blipFill>
          <a:blip r:embed="rId3"/>
          <a:stretch/>
        </p:blipFill>
        <p:spPr>
          <a:xfrm>
            <a:off x="5925960" y="3927600"/>
            <a:ext cx="2679840" cy="25351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5"/>
          <p:cNvSpPr/>
          <p:nvPr/>
        </p:nvSpPr>
        <p:spPr>
          <a:xfrm>
            <a:off x="958680" y="437184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特性方程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51" name="对象 17"/>
          <p:cNvGraphicFramePr/>
          <p:nvPr/>
        </p:nvGraphicFramePr>
        <p:xfrm>
          <a:off x="3305160" y="4394160"/>
          <a:ext cx="925560" cy="347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对象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05160" y="4394160"/>
                    <a:ext cx="925560" cy="3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图片 18" descr=""/>
          <p:cNvPicPr/>
          <p:nvPr/>
        </p:nvPicPr>
        <p:blipFill>
          <a:blip r:embed="rId6"/>
          <a:stretch/>
        </p:blipFill>
        <p:spPr>
          <a:xfrm>
            <a:off x="9399600" y="4194000"/>
            <a:ext cx="2001960" cy="200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5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文本框 13"/>
          <p:cNvSpPr/>
          <p:nvPr/>
        </p:nvSpPr>
        <p:spPr>
          <a:xfrm>
            <a:off x="1146240" y="1042920"/>
            <a:ext cx="10032840" cy="34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数字系统中使用最多的时序逻辑电路就是计数器。计数器不仅能用于对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计数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还可以用于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频、定时、产生节拍脉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进行数字运算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计数器若按各个计数单元动作的次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进制方式不同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二进制计数器、十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以及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任意进制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若按计数过程中数字的增减划分，可分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法计数器、减法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和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加减均可的可逆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集成计数器具有功能完善、通用性强、功耗低、工作速度快、功能可扩展等许多优点，应用广泛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同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复杂，但计数速度快，多用在计算机电路中。目前生产的同步计数器芯片分为二进制和十进制两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集成异步计数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电路简单，但计数速度慢，多用于仪器、仪表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63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四位同步二进制加法计数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具有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计数、保持、预置、清零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64" name="图片 8" descr=""/>
          <p:cNvPicPr/>
          <p:nvPr/>
        </p:nvPicPr>
        <p:blipFill>
          <a:blip r:embed="rId1"/>
          <a:stretch/>
        </p:blipFill>
        <p:spPr>
          <a:xfrm>
            <a:off x="584280" y="2430360"/>
            <a:ext cx="3673440" cy="247356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" descr=""/>
          <p:cNvPicPr/>
          <p:nvPr/>
        </p:nvPicPr>
        <p:blipFill>
          <a:blip r:embed="rId2"/>
          <a:stretch/>
        </p:blipFill>
        <p:spPr>
          <a:xfrm>
            <a:off x="4305240" y="2192400"/>
            <a:ext cx="7645320" cy="275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8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70" name="图片 2" descr=""/>
          <p:cNvPicPr/>
          <p:nvPr/>
        </p:nvPicPr>
        <p:blipFill>
          <a:blip r:embed="rId1"/>
          <a:stretch/>
        </p:blipFill>
        <p:spPr>
          <a:xfrm>
            <a:off x="733320" y="1143000"/>
            <a:ext cx="1371600" cy="7192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7"/>
          <p:cNvSpPr/>
          <p:nvPr/>
        </p:nvSpPr>
        <p:spPr>
          <a:xfrm>
            <a:off x="2293920" y="129528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74LS161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和必要的门电路实现十进制计数器。要求利用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 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端实现。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173" name="对象 9"/>
          <p:cNvGraphicFramePr/>
          <p:nvPr/>
        </p:nvGraphicFramePr>
        <p:xfrm>
          <a:off x="8010360" y="1295280"/>
          <a:ext cx="378000" cy="33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对象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10360" y="1295280"/>
                    <a:ext cx="3780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图片 13" descr=""/>
          <p:cNvPicPr/>
          <p:nvPr/>
        </p:nvPicPr>
        <p:blipFill>
          <a:blip r:embed="rId4"/>
          <a:stretch/>
        </p:blipFill>
        <p:spPr>
          <a:xfrm>
            <a:off x="861840" y="1724040"/>
            <a:ext cx="3668760" cy="513252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5"/>
          <p:cNvSpPr/>
          <p:nvPr/>
        </p:nvSpPr>
        <p:spPr>
          <a:xfrm>
            <a:off x="4964040" y="1781280"/>
            <a:ext cx="669456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解：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计数器采用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BCD8421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码。十进制计数器的状态如表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第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个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P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脉冲上升沿到来时，计数器的状态为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3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2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1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Q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0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=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与非门输出低电平送到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        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端，计数器复位为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000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，由于</a:t>
            </a:r>
            <a:r>
              <a:rPr b="0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1010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状态转瞬即逝，故称为过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7" name="图片 16" descr="微信图片_20220508162801"/>
          <p:cNvPicPr/>
          <p:nvPr/>
        </p:nvPicPr>
        <p:blipFill>
          <a:blip r:embed="rId5"/>
          <a:stretch/>
        </p:blipFill>
        <p:spPr>
          <a:xfrm>
            <a:off x="6350040" y="3997440"/>
            <a:ext cx="3178080" cy="196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对象 17"/>
          <p:cNvGraphicFramePr/>
          <p:nvPr/>
        </p:nvGraphicFramePr>
        <p:xfrm>
          <a:off x="9150480" y="2793960"/>
          <a:ext cx="377640" cy="333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9" name="对象 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150480" y="2793960"/>
                    <a:ext cx="377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3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计数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84" name="文本框 13"/>
          <p:cNvSpPr/>
          <p:nvPr/>
        </p:nvSpPr>
        <p:spPr>
          <a:xfrm>
            <a:off x="1146240" y="1042920"/>
            <a:ext cx="1003284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—五—十进制异步计数器</a:t>
            </a: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74LS290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兼有二进制、五进制和十进制三种计数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当十进制计数时，又有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8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和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421BCD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码选用功能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658800" y="2787480"/>
            <a:ext cx="5692680" cy="272916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" descr=""/>
          <p:cNvPicPr/>
          <p:nvPr/>
        </p:nvPicPr>
        <p:blipFill>
          <a:blip r:embed="rId2"/>
          <a:stretch/>
        </p:blipFill>
        <p:spPr>
          <a:xfrm>
            <a:off x="7056360" y="738360"/>
            <a:ext cx="5135760" cy="526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1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2" name="图片 7" descr=""/>
          <p:cNvPicPr/>
          <p:nvPr/>
        </p:nvPicPr>
        <p:blipFill>
          <a:blip r:embed="rId1"/>
          <a:stretch/>
        </p:blipFill>
        <p:spPr>
          <a:xfrm>
            <a:off x="4260960" y="506520"/>
            <a:ext cx="7785000" cy="576900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9"/>
          <p:cNvSpPr/>
          <p:nvPr/>
        </p:nvSpPr>
        <p:spPr>
          <a:xfrm>
            <a:off x="584280" y="2332080"/>
            <a:ext cx="345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由分压器、比较器、基本</a:t>
            </a: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RS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触发器和放电三极管等部分组成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9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六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555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定时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555</a:t>
            </a: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内部结构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1146240" y="2257560"/>
            <a:ext cx="2709720" cy="27399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" descr=""/>
          <p:cNvPicPr/>
          <p:nvPr/>
        </p:nvPicPr>
        <p:blipFill>
          <a:blip r:embed="rId2"/>
          <a:stretch/>
        </p:blipFill>
        <p:spPr>
          <a:xfrm>
            <a:off x="4341960" y="849240"/>
            <a:ext cx="7284960" cy="4121280"/>
          </a:xfrm>
          <a:prstGeom prst="rect">
            <a:avLst/>
          </a:prstGeom>
          <a:ln w="0">
            <a:noFill/>
          </a:ln>
        </p:spPr>
      </p:pic>
      <p:sp>
        <p:nvSpPr>
          <p:cNvPr id="201" name="文本框 14"/>
          <p:cNvSpPr/>
          <p:nvPr/>
        </p:nvSpPr>
        <p:spPr>
          <a:xfrm>
            <a:off x="1890720" y="5356080"/>
            <a:ext cx="60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定时器功能表中，                                          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02" name="图片 18" descr=""/>
          <p:cNvPicPr/>
          <p:nvPr/>
        </p:nvPicPr>
        <p:blipFill>
          <a:blip r:embed="rId3"/>
          <a:stretch/>
        </p:blipFill>
        <p:spPr>
          <a:xfrm>
            <a:off x="4241880" y="5226120"/>
            <a:ext cx="2403360" cy="561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13"/>
          <p:cNvSpPr/>
          <p:nvPr/>
        </p:nvSpPr>
        <p:spPr>
          <a:xfrm>
            <a:off x="1146240" y="1042920"/>
            <a:ext cx="100328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是只有一个稳定状态的电路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特点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：有一个稳定状态和一个暂稳态；在触发脉冲作用下，电路将从稳态翻转到暂稳态，在暂稳态停留一段时间后，又自动返回到稳定状态；暂稳态时间的长短取决于电路本身参数，与触发脉冲的宽度无关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0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0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10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11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2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14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5" name="图片 6" descr=""/>
          <p:cNvPicPr/>
          <p:nvPr/>
        </p:nvPicPr>
        <p:blipFill>
          <a:blip r:embed="rId1"/>
          <a:stretch/>
        </p:blipFill>
        <p:spPr>
          <a:xfrm>
            <a:off x="220680" y="2181240"/>
            <a:ext cx="7310520" cy="371628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11"/>
          <p:cNvSpPr/>
          <p:nvPr/>
        </p:nvSpPr>
        <p:spPr>
          <a:xfrm>
            <a:off x="7880400" y="2241720"/>
            <a:ext cx="27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①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②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暂稳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③</a:t>
            </a: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自动返回稳定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18" name="对象 13"/>
          <p:cNvGraphicFramePr/>
          <p:nvPr/>
        </p:nvGraphicFramePr>
        <p:xfrm>
          <a:off x="8448840" y="3357720"/>
          <a:ext cx="2147760" cy="37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对象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48840" y="3357720"/>
                    <a:ext cx="2147760" cy="37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文本框 15"/>
          <p:cNvSpPr/>
          <p:nvPr/>
        </p:nvSpPr>
        <p:spPr>
          <a:xfrm>
            <a:off x="7664400" y="3911760"/>
            <a:ext cx="41194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可看出，脉冲宽度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大小与定时元件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R</a:t>
            </a:r>
            <a:r>
              <a:rPr b="0" i="1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、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C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的大小有关，而与输入脉冲宽度及电源电压大小无关，调节定时元件，可以改变输出脉冲宽度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74840" y="1112760"/>
            <a:ext cx="7763040" cy="3934800"/>
            <a:chOff x="2274840" y="1112760"/>
            <a:chExt cx="776304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40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74840" y="4404960"/>
              <a:ext cx="776304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555</a:t>
              </a:r>
              <a:r>
                <a:rPr b="0" lang="zh-CN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转向闪光讯响器电路</a:t>
              </a:r>
              <a:r>
                <a:rPr b="0" sz="3600" spc="-1" strike="noStrike">
                  <a:solidFill>
                    <a:srgbClr val="ffffff"/>
                  </a:solidFill>
                  <a:latin typeface="等线"/>
                  <a:ea typeface="思源黑体 CN Light"/>
                </a:rPr>
                <a:t>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文本框 13"/>
          <p:cNvSpPr/>
          <p:nvPr/>
        </p:nvSpPr>
        <p:spPr>
          <a:xfrm>
            <a:off x="1146240" y="1042920"/>
            <a:ext cx="10032840" cy="18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一、单稳态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单稳态触发器的应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22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23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4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25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26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28" name="图片 7" descr=""/>
          <p:cNvPicPr/>
          <p:nvPr/>
        </p:nvPicPr>
        <p:blipFill>
          <a:blip r:embed="rId1"/>
          <a:stretch/>
        </p:blipFill>
        <p:spPr>
          <a:xfrm>
            <a:off x="1012680" y="2287440"/>
            <a:ext cx="3903840" cy="2843280"/>
          </a:xfrm>
          <a:prstGeom prst="rect">
            <a:avLst/>
          </a:prstGeom>
          <a:ln w="0">
            <a:noFill/>
          </a:ln>
        </p:spPr>
      </p:pic>
      <p:sp>
        <p:nvSpPr>
          <p:cNvPr id="229" name="文本框 16"/>
          <p:cNvSpPr/>
          <p:nvPr/>
        </p:nvSpPr>
        <p:spPr>
          <a:xfrm>
            <a:off x="5240160" y="1374840"/>
            <a:ext cx="6093000" cy="34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等线"/>
                <a:ea typeface="思源黑体 CN Light"/>
              </a:rPr>
              <a:t>）定时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单稳态触发器可以构成定时电路，与继电器或驱动放大电路配合，可实现自动控制、定时开关的功能等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（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思源黑体 CN Light"/>
              </a:rPr>
              <a:t>）分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当一个触发脉冲使单稳态触发器进入暂稳状态，在此脉冲以后时间</a:t>
            </a:r>
            <a:r>
              <a:rPr b="0" i="1" lang="en-US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t</a:t>
            </a:r>
            <a:r>
              <a:rPr b="0" lang="en-US" sz="1800" spc="-1" strike="noStrike" baseline="-25000">
                <a:solidFill>
                  <a:srgbClr val="404040"/>
                </a:solidFill>
                <a:latin typeface="Times New Roman"/>
                <a:ea typeface="思源黑体 CN Light"/>
              </a:rPr>
              <a:t>w</a:t>
            </a:r>
            <a:r>
              <a:rPr b="0" lang="zh-CN" sz="1800" spc="-1" strike="noStrike">
                <a:solidFill>
                  <a:srgbClr val="404040"/>
                </a:solidFill>
                <a:latin typeface="Times New Roman"/>
                <a:ea typeface="思源黑体 CN Light"/>
              </a:rPr>
              <a:t>内，如果再输入其他触发脉冲，则对触发器状态不再起作用；只有当触发器处于和稳定状态时，输入的触发脉冲才起作用，分频电路正是利用这个特性将高频率信号变换为低频率信号，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3"/>
          <p:cNvSpPr/>
          <p:nvPr/>
        </p:nvSpPr>
        <p:spPr>
          <a:xfrm>
            <a:off x="1146240" y="1042920"/>
            <a:ext cx="1003284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二、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用</a:t>
            </a:r>
            <a:r>
              <a:rPr b="0" lang="en-US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555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定时器构成的多谐振荡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31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32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3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4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35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6" descr=""/>
          <p:cNvPicPr/>
          <p:nvPr/>
        </p:nvPicPr>
        <p:blipFill>
          <a:blip r:embed="rId1"/>
          <a:stretch/>
        </p:blipFill>
        <p:spPr>
          <a:xfrm>
            <a:off x="147600" y="2178000"/>
            <a:ext cx="7880400" cy="3394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9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38" name="对象 8"/>
          <p:cNvGraphicFramePr/>
          <p:nvPr/>
        </p:nvGraphicFramePr>
        <p:xfrm>
          <a:off x="8256600" y="1960560"/>
          <a:ext cx="2566800" cy="7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对象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6600" y="1960560"/>
                    <a:ext cx="256680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文本框 10"/>
          <p:cNvSpPr/>
          <p:nvPr/>
        </p:nvSpPr>
        <p:spPr>
          <a:xfrm>
            <a:off x="8193240" y="1530360"/>
            <a:ext cx="39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两个暂稳态维持时间的计算公式</a:t>
            </a:r>
            <a:r>
              <a:rPr b="0" lang="zh-CN" sz="1800" spc="-1" strike="noStrike">
                <a:solidFill>
                  <a:srgbClr val="000000"/>
                </a:solidFill>
                <a:latin typeface="等线"/>
                <a:ea typeface="楷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文本框 12"/>
          <p:cNvSpPr/>
          <p:nvPr/>
        </p:nvSpPr>
        <p:spPr>
          <a:xfrm>
            <a:off x="7881840" y="288936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周期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文本框 14"/>
          <p:cNvSpPr/>
          <p:nvPr/>
        </p:nvSpPr>
        <p:spPr>
          <a:xfrm>
            <a:off x="7897680" y="3916440"/>
            <a:ext cx="2462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振荡频率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文本框 16"/>
          <p:cNvSpPr/>
          <p:nvPr/>
        </p:nvSpPr>
        <p:spPr>
          <a:xfrm>
            <a:off x="7897680" y="4862520"/>
            <a:ext cx="225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等线"/>
                <a:ea typeface="思源黑体 CN Light"/>
              </a:rPr>
              <a:t>占空比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Rectangle 11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5" name="对象 18"/>
          <p:cNvGraphicFramePr/>
          <p:nvPr/>
        </p:nvGraphicFramePr>
        <p:xfrm>
          <a:off x="8256600" y="3409920"/>
          <a:ext cx="2746440" cy="3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6" name="对象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56600" y="3409920"/>
                    <a:ext cx="274644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3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对象 20"/>
          <p:cNvGraphicFramePr/>
          <p:nvPr/>
        </p:nvGraphicFramePr>
        <p:xfrm>
          <a:off x="8256600" y="4402080"/>
          <a:ext cx="941400" cy="338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9" name="对象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256600" y="4402080"/>
                    <a:ext cx="9414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15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51" name="对象 22"/>
          <p:cNvGraphicFramePr/>
          <p:nvPr/>
        </p:nvGraphicFramePr>
        <p:xfrm>
          <a:off x="8193240" y="5450040"/>
          <a:ext cx="3719520" cy="717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2" name="对象 2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193240" y="5450040"/>
                    <a:ext cx="3719520" cy="71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文本框 13"/>
          <p:cNvSpPr/>
          <p:nvPr/>
        </p:nvSpPr>
        <p:spPr>
          <a:xfrm>
            <a:off x="1146240" y="1042920"/>
            <a:ext cx="10032840" cy="34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三、施密特触发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最重要的特点是能够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把变化缓慢的输入信号整形成边沿陡峭的矩形脉冲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同时，施密特触发器还可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利用其回差电压来提高电路的抗干扰能力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施密特触发器的典型应用在</a:t>
            </a:r>
            <a:r>
              <a:rPr b="0" lang="zh-CN" sz="1800" spc="-1" strike="noStrike">
                <a:solidFill>
                  <a:srgbClr val="ff0000"/>
                </a:solidFill>
                <a:latin typeface="思源黑体 CN Light"/>
                <a:ea typeface="思源黑体 CN Light"/>
              </a:rPr>
              <a:t>波形变换、 幅度鉴别、脉冲整形</a:t>
            </a:r>
            <a:r>
              <a:rPr b="0" lang="zh-CN" sz="1800" spc="-1" strike="noStrike">
                <a:solidFill>
                  <a:srgbClr val="404040"/>
                </a:solidFill>
                <a:latin typeface="思源黑体 CN Light"/>
                <a:ea typeface="思源黑体 CN Light"/>
              </a:rPr>
              <a:t>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4" name="组合 28"/>
          <p:cNvGrpSpPr/>
          <p:nvPr/>
        </p:nvGrpSpPr>
        <p:grpSpPr>
          <a:xfrm>
            <a:off x="473040" y="-264960"/>
            <a:ext cx="5160960" cy="1211040"/>
            <a:chOff x="473040" y="-264960"/>
            <a:chExt cx="5160960" cy="1211040"/>
          </a:xfrm>
        </p:grpSpPr>
        <p:sp>
          <p:nvSpPr>
            <p:cNvPr id="255" name="饼形 6"/>
            <p:cNvSpPr/>
            <p:nvPr/>
          </p:nvSpPr>
          <p:spPr>
            <a:xfrm rot="16200000">
              <a:off x="727200" y="-518760"/>
              <a:ext cx="1211040" cy="1719360"/>
            </a:xfrm>
            <a:custGeom>
              <a:avLst/>
              <a:gdLst/>
              <a:ahLst/>
              <a:rect l="l" t="t" r="r" b="b"/>
              <a:pathLst>
                <a:path w="1210658" h="1599773">
                  <a:moveTo>
                    <a:pt x="6" y="803384"/>
                  </a:moveTo>
                  <a:cubicBezTo>
                    <a:pt x="-572" y="628696"/>
                    <a:pt x="42143" y="458560"/>
                    <a:pt x="121626" y="318970"/>
                  </a:cubicBezTo>
                  <a:cubicBezTo>
                    <a:pt x="235982" y="118133"/>
                    <a:pt x="415126" y="0"/>
                    <a:pt x="605329" y="0"/>
                  </a:cubicBezTo>
                  <a:lnTo>
                    <a:pt x="605329" y="799887"/>
                  </a:lnTo>
                  <a:lnTo>
                    <a:pt x="6" y="803384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6" name="矩形 4"/>
            <p:cNvSpPr/>
            <p:nvPr/>
          </p:nvSpPr>
          <p:spPr>
            <a:xfrm>
              <a:off x="555480" y="360360"/>
              <a:ext cx="16164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7" name="文本框 5"/>
            <p:cNvSpPr/>
            <p:nvPr/>
          </p:nvSpPr>
          <p:spPr>
            <a:xfrm>
              <a:off x="1333440" y="360360"/>
              <a:ext cx="4300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等线"/>
                  <a:ea typeface="思源黑体 CN Medium"/>
                </a:rPr>
                <a:t>拓展提高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8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5995800" y="12168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等线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0" y="0"/>
            <a:ext cx="12192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4" name="图片 6" descr=""/>
          <p:cNvPicPr/>
          <p:nvPr/>
        </p:nvPicPr>
        <p:blipFill>
          <a:blip r:embed="rId1"/>
          <a:stretch/>
        </p:blipFill>
        <p:spPr>
          <a:xfrm>
            <a:off x="636480" y="2946240"/>
            <a:ext cx="6462720" cy="355140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8" descr=""/>
          <p:cNvPicPr/>
          <p:nvPr/>
        </p:nvPicPr>
        <p:blipFill>
          <a:blip r:embed="rId2"/>
          <a:stretch/>
        </p:blipFill>
        <p:spPr>
          <a:xfrm>
            <a:off x="7297560" y="3121200"/>
            <a:ext cx="458820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267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8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9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0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1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2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3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6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7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8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9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0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3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4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5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6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7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0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1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2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3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5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296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7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913040"/>
            <a:ext cx="9236160" cy="113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客户的一辆轿车，转向系统故障，来某</a:t>
            </a: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4S</a:t>
            </a: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店维修。客户想了解汽车转向系统的工作原理，请根据客户需要，按要求完成相应的工作任务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汽车左转弯时，左转向灯闪亮，同时扬声器发出“嘀嘀”的转向提醒声；汽车右转弯时，右转向灯闪亮，同时扬声器发出“嘀嘀”的转向提醒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6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9" name="文本框 5"/>
          <p:cNvSpPr/>
          <p:nvPr/>
        </p:nvSpPr>
        <p:spPr>
          <a:xfrm>
            <a:off x="1528920" y="2468520"/>
            <a:ext cx="8956440" cy="22885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时序逻辑电路和组合逻辑电路有什么不同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等线"/>
                <a:ea typeface="思源黑体 CN Light"/>
              </a:rPr>
              <a:t>常见触发器有哪些，它们分别有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3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基本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5" name="文本框 13"/>
          <p:cNvSpPr/>
          <p:nvPr/>
        </p:nvSpPr>
        <p:spPr>
          <a:xfrm>
            <a:off x="1146240" y="1042920"/>
            <a:ext cx="1003284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等线"/>
              </a:rPr>
              <a:t>从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上分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可分为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、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。不同结构的触发器状态变化的时间不一样。基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输出直接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状态决定，原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前的触发器状态，状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+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化后的触发器状态，即按输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信号变化划分原状态和次状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基本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由两个与非门的输出端和输入端交叉反馈相接，逻辑电路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6" name="图片 11" descr=""/>
          <p:cNvPicPr/>
          <p:nvPr/>
        </p:nvPicPr>
        <p:blipFill>
          <a:blip r:embed="rId1"/>
          <a:stretch/>
        </p:blipFill>
        <p:spPr>
          <a:xfrm>
            <a:off x="733320" y="3666960"/>
            <a:ext cx="3881520" cy="19735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3" descr=""/>
          <p:cNvPicPr/>
          <p:nvPr/>
        </p:nvPicPr>
        <p:blipFill>
          <a:blip r:embed="rId2"/>
          <a:stretch/>
        </p:blipFill>
        <p:spPr>
          <a:xfrm>
            <a:off x="4815000" y="3492360"/>
            <a:ext cx="3581280" cy="218628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5" descr=""/>
          <p:cNvPicPr/>
          <p:nvPr/>
        </p:nvPicPr>
        <p:blipFill>
          <a:blip r:embed="rId3"/>
          <a:stretch/>
        </p:blipFill>
        <p:spPr>
          <a:xfrm>
            <a:off x="8510760" y="3429000"/>
            <a:ext cx="2509560" cy="21956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1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2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3" name="文本框 13"/>
          <p:cNvSpPr/>
          <p:nvPr/>
        </p:nvSpPr>
        <p:spPr>
          <a:xfrm>
            <a:off x="1146240" y="1042920"/>
            <a:ext cx="1003284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在实际应用中，当一个逻辑电路中有多个触发器时，为使各触发器输出状态的变化在规定时刻发生，触发器的工作状态不仅要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的信号来决定，而且还希望触发器按一定的节拍翻转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为此，给触发器引入了一个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钟脉冲信号</a:t>
            </a: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为触发器状态翻转时刻的控制信号。只有在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端上出现时钟脉冲时，触发器的状态才能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具有时钟脉冲控制的触发器称为同步触发器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同步触发器状态的变化不仅取决于输入信号的变化，还取决于时钟脉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5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同步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RS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8" name="文本框 13"/>
          <p:cNvSpPr/>
          <p:nvPr/>
        </p:nvSpPr>
        <p:spPr>
          <a:xfrm>
            <a:off x="1146240" y="1042920"/>
            <a:ext cx="10032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同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由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与非门组成，逻辑电路及逻辑符号如图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19" name="图片 6" descr=""/>
          <p:cNvPicPr/>
          <p:nvPr/>
        </p:nvPicPr>
        <p:blipFill>
          <a:blip r:embed="rId1"/>
          <a:stretch/>
        </p:blipFill>
        <p:spPr>
          <a:xfrm>
            <a:off x="138240" y="1878120"/>
            <a:ext cx="4427280" cy="31017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8" descr=""/>
          <p:cNvPicPr/>
          <p:nvPr/>
        </p:nvPicPr>
        <p:blipFill>
          <a:blip r:embed="rId2"/>
          <a:stretch/>
        </p:blipFill>
        <p:spPr>
          <a:xfrm>
            <a:off x="4565520" y="1932120"/>
            <a:ext cx="3205440" cy="29937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"/>
          <p:cNvPicPr/>
          <p:nvPr/>
        </p:nvPicPr>
        <p:blipFill>
          <a:blip r:embed="rId3"/>
          <a:stretch/>
        </p:blipFill>
        <p:spPr>
          <a:xfrm>
            <a:off x="7770960" y="2247840"/>
            <a:ext cx="4319280" cy="2541600"/>
          </a:xfrm>
          <a:prstGeom prst="rect">
            <a:avLst/>
          </a:prstGeom>
          <a:ln w="0">
            <a:noFill/>
          </a:ln>
        </p:spPr>
      </p:pic>
      <p:pic>
        <p:nvPicPr>
          <p:cNvPr id="122" name="文本框 12" descr=""/>
          <p:cNvPicPr/>
          <p:nvPr/>
        </p:nvPicPr>
        <p:blipFill>
          <a:blip r:embed="rId4"/>
          <a:stretch/>
        </p:blipFill>
        <p:spPr>
          <a:xfrm>
            <a:off x="530280" y="5108400"/>
            <a:ext cx="11028240" cy="963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27" name="文本框 13" descr=""/>
          <p:cNvPicPr/>
          <p:nvPr/>
        </p:nvPicPr>
        <p:blipFill>
          <a:blip r:embed="rId1"/>
          <a:stretch/>
        </p:blipFill>
        <p:spPr>
          <a:xfrm>
            <a:off x="1096920" y="1042920"/>
            <a:ext cx="10345680" cy="3260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2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</a:t>
              </a:r>
              <a:r>
                <a:rPr b="0" i="1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JK</a:t>
              </a:r>
              <a:r>
                <a:rPr b="0" sz="2800" spc="-1" strike="noStrike">
                  <a:solidFill>
                    <a:srgbClr val="404040"/>
                  </a:solidFill>
                  <a:latin typeface="Times New Roman"/>
                  <a:ea typeface="思源黑体 CN Medium"/>
                </a:rPr>
                <a:t>触发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2" name="文本框 13"/>
          <p:cNvSpPr/>
          <p:nvPr/>
        </p:nvSpPr>
        <p:spPr>
          <a:xfrm>
            <a:off x="1079640" y="849240"/>
            <a:ext cx="100328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图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LS11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K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触发器的引脚功能及逻辑符号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33" name="图片 6" descr=""/>
          <p:cNvPicPr/>
          <p:nvPr/>
        </p:nvPicPr>
        <p:blipFill>
          <a:blip r:embed="rId1"/>
          <a:stretch/>
        </p:blipFill>
        <p:spPr>
          <a:xfrm>
            <a:off x="403200" y="1365120"/>
            <a:ext cx="5083200" cy="232596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8" descr=""/>
          <p:cNvPicPr/>
          <p:nvPr/>
        </p:nvPicPr>
        <p:blipFill>
          <a:blip r:embed="rId2"/>
          <a:stretch/>
        </p:blipFill>
        <p:spPr>
          <a:xfrm>
            <a:off x="1917720" y="3691080"/>
            <a:ext cx="2601720" cy="312084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0" descr=""/>
          <p:cNvPicPr/>
          <p:nvPr/>
        </p:nvPicPr>
        <p:blipFill>
          <a:blip r:embed="rId3"/>
          <a:stretch/>
        </p:blipFill>
        <p:spPr>
          <a:xfrm>
            <a:off x="6526080" y="103320"/>
            <a:ext cx="5394600" cy="6708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云斐 姜</cp:lastModifiedBy>
  <dcterms:modified xsi:type="dcterms:W3CDTF">2024-08-29T04:37:00Z</dcterms:modified>
  <cp:revision>3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